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86366-BCBA-4887-B019-4D2DC102C9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91EE-23D9-4212-9228-78A4C7C539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C026F-2FCE-425F-AAEF-E6AC3D5292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89DD-6C0F-4B2E-8191-28985D0011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2F290-0FAA-47B4-BD99-E7AEBE55B7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08B08-A4C1-43CA-ACBB-0A6DD58600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FA904-B7F2-4344-90D8-76A2E75691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AE9C-75D8-4E82-9226-E9949F0C08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32590-A305-4E39-BF72-7939DACB33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DC8E-FDE5-458D-AE0E-C75C13D92A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9BEE8-5868-4803-B70B-C16951A93A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737BD-8097-4E10-A493-DDD23AFD36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2B43C-7A8D-4ABD-850D-DEBA5E6E65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2FF75-6BA3-4760-BFB4-EC2EC8C0B6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3457E-8544-47B3-8D37-8C213FC8C0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A9F9-C1BD-4FC8-8D40-71D7B43309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EE3F2-6BAC-4FF4-97ED-6D7061CD4E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CE223-1AE8-4799-B44A-96AA4695C1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2EC1C-17A3-4591-A629-A193259462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F349-7204-4CA5-AA98-C2ECAB8B7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A18A-6B00-4206-9F79-76677D6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86FC-8EB4-4425-970E-C139075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FD36-D321-4698-821D-829415F20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EED3-CF92-4A30-B5B8-68D96789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4C76-C05A-488A-81FD-5BC58A17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467C-C019-4D94-AF5E-6A6AFF4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767F-F8BA-44B2-8578-F13E5230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4926-1793-494F-9835-54C9A75A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82BD-CF5E-4720-82C0-1A16AE6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719A-E85A-4E52-B456-3C9190A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4ABE-B589-4AE5-AD3A-7D38CD1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0054CB-8276-47BD-A6E8-2449D7C93D8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6844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 función de re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600360" y="4427640"/>
            <a:ext cx="2124000" cy="2087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1413000"/>
            <a:ext cx="817236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ro es un animal acostumbrado a vivir en man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erro mal adiestrado tratará de asumir el rol de lí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adiestrar adecuadamente a un perro, debes asumir el rol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íder, lo cual impl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Auto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eguridad y determ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el perro note que tu le lideras, asumirá su rol en la manada, y, libre de las responsabilidades de ser el líder, será un perro más feli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984480" y="3886200"/>
            <a:ext cx="161928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71640" y="1419120"/>
            <a:ext cx="74880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salir de ca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aca a tu perro siempre atado, con su collar y una correa no muy lar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al de casa siempre tú primero (no permitas que salga antes que tú) y sólo cuando el perro muestre tranqu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El perro debe ir a tu lado, pero un poco por detrás (no lo lleves “dando tirones”). Mantenlo ahí usando la cor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419120"/>
            <a:ext cx="74880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ta el paso a tu perro con seguridad si pretende atacar a otro perro o a un vecino, o si pretende salir primero de ca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émiale cuando lo haga bi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2160720" y="3240000"/>
            <a:ext cx="51688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141912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 al perro un lugar para poner su comida y para dorm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260360" y="2519280"/>
            <a:ext cx="704700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419120"/>
            <a:ext cx="74880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 de comer al perro siempre después de tí y solo su com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 necesario, haz que te vea comer algo antes de ponerle la com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3240000" y="2879640"/>
            <a:ext cx="3140280" cy="31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16280" y="3216240"/>
            <a:ext cx="3951360" cy="3336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71640" y="1419120"/>
            <a:ext cx="748800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quieras corregir un comportamiento no deseab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rrige siempre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Geneva"/>
              </a:rPr>
              <a:t> en el mome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con u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Geneva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 enérgico; si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lo haces a destiempo no sabrá lo que quie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Geneva"/>
              </a:rPr>
              <a:t>Si no acata la autoridad, no hace falta gritar ni golpear: bastará con poner tu mano tensa en su cuel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71640" y="1419120"/>
            <a:ext cx="777708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a todos los comportamientos deseables con carici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cara y palabras sua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asionalmente, utiliza golosinas para per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3191040" y="3060720"/>
            <a:ext cx="292860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noce a tu per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141912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recuerda: tu perro es tu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Normas para el adiestramiento ca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191040" y="3060720"/>
            <a:ext cx="292860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luis</cp:lastModifiedBy>
  <dcterms:modified xsi:type="dcterms:W3CDTF">2012-10-28T09:48:03Z</dcterms:modified>
  <cp:revision>44</cp:revision>
  <dc:subject/>
  <dc:title>Diapositiva 1</dc:title>
</cp:coreProperties>
</file>